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0B54-5FF3-4EBD-943F-F27D94C9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96C-EEA4-4859-8BB8-567C64DEC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30D3-1B33-4491-AD9F-45CABA49C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CF3D-599C-4EA0-8487-138C34FB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1B79A-1909-49D8-9CB5-F641B85E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DC3E-835A-4757-B0FA-0DF6E4C0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8CBEC-78F0-43B5-A0B4-C8CD7688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9849-4A04-4787-83E7-5D81038A2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42A5-5B20-4F62-89F7-18CC6AFC8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53604-FF36-4325-86F0-5E45D17B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3AD6-6853-4C08-A374-30A0CC90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2435-4E23-477F-9193-19F61185E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025C-A5AE-4FB5-A466-7A4343EC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4054-D382-4A11-8846-37BB2D828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105C-7F99-4AE0-B73F-69CB789FB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01B0-12A7-472F-8F0F-66C72648A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DAB3-835D-4B04-87E6-7CB3751B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5FC2-1F03-4DEC-9219-EA98AF0CF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FC64-3E3B-41B2-AC11-D5B7FB863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03CD-8142-4D4C-9441-4209EB152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F61A-DEAE-4A43-9B73-78D83B56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38CA-AB66-4EE4-B13E-3EFF1539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1ADE-351D-4476-9D79-8FDB49B99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D48-DB21-4E05-B00B-6E4B23C1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11C7-C8C7-4013-B55F-55EFC870779A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EEB9-18F5-4AAC-B4EE-1A9DC2971E9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二章  寄生虫分类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c Classif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8144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人体寄生虫被分类在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个真核生物界，即原生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Protozo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、色混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Chromist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和动物界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Animali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）。原生动物界和色混界动物是单细胞动物，而动物界动物（也称后生动物）是多细胞动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医学寄生虫分类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57200" y="1252440"/>
            <a:ext cx="8229600" cy="5327640"/>
            <a:chOff x="457200" y="1252440"/>
            <a:chExt cx="8229600" cy="5327640"/>
          </a:xfrm>
        </p:grpSpPr>
        <p:sp>
          <p:nvSpPr>
            <p:cNvPr id="216" name=""/>
            <p:cNvSpPr/>
            <p:nvPr/>
          </p:nvSpPr>
          <p:spPr>
            <a:xfrm>
              <a:off x="5002200" y="600084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人芽囊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stocystis homini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238480" y="600084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双环门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igyr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600084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色混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romist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02200" y="4781520"/>
              <a:ext cx="368460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疟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smodium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弓形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oxoplasm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隐孢子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yptospor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袋纤毛虫 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ntidi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38480" y="4781520"/>
              <a:ext cx="276372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孢子虫门（孢子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orozoa(sporozoan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毛虫门（纤毛虫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274320" indent="-27432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ophora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iliates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7200" y="4781520"/>
              <a:ext cx="1781280" cy="10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002200" y="4201920"/>
              <a:ext cx="368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耐格里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aegle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238480" y="4201920"/>
              <a:ext cx="27637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透色动物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rcol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57200" y="4201920"/>
              <a:ext cx="1781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02200" y="3622680"/>
              <a:ext cx="36846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滴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mona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38480" y="3622680"/>
              <a:ext cx="27637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副基体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basal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57200" y="3622680"/>
              <a:ext cx="17812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02200" y="1689120"/>
              <a:ext cx="368460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巴氏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alamuth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内阿米巴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amoeb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利什曼原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ishman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贾第虫</a:t>
              </a:r>
              <a:r>
                <a:rPr b="0" i="1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iard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238480" y="1611360"/>
              <a:ext cx="276372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阿米巴门（阿米巴）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moebozoa(amebae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200" y="1611360"/>
              <a:ext cx="1781280" cy="201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原生动物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rotozo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002200" y="1252440"/>
              <a:ext cx="36846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寄生虫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sit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238480" y="1252440"/>
              <a:ext cx="276372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门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ylu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" y="1252440"/>
              <a:ext cx="17812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界</a:t>
              </a: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Kingdo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7200" y="125244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7200" y="658008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686800" y="1252440"/>
              <a:ext cx="0" cy="5176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7200" y="1611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95640" y="2414520"/>
              <a:ext cx="280800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眼虫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Euglenozo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后滴门（鞭毛虫）</a:t>
              </a:r>
              <a:r>
                <a:rPr b="0" lang="zh-CN" sz="1600" spc="-1" strike="noStrike">
                  <a:solidFill>
                    <a:srgbClr val="ffffff"/>
                  </a:solidFill>
                  <a:latin typeface="Arial"/>
                </a:rPr>
                <a:t>Metamonada(flagellate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828720" y="907920"/>
            <a:ext cx="7775640" cy="5345280"/>
            <a:chOff x="828720" y="907920"/>
            <a:chExt cx="7775640" cy="5345280"/>
          </a:xfrm>
        </p:grpSpPr>
        <p:sp>
          <p:nvSpPr>
            <p:cNvPr id="241" name=""/>
            <p:cNvSpPr/>
            <p:nvPr/>
          </p:nvSpPr>
          <p:spPr>
            <a:xfrm>
              <a:off x="4983120" y="4057560"/>
              <a:ext cx="336708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：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支睾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onorch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姜片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asciolops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并殖吸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aragonim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裂体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chistos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obilharz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东毕吸虫</a:t>
              </a:r>
              <a:r>
                <a:rPr b="0" i="1" lang="pl-PL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ientobilharz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55920" y="4057560"/>
              <a:ext cx="25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扁形动物门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吸虫、绦虫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laty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（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ematodes, cestodes</a:t>
              </a:r>
              <a:r>
                <a:rPr b="0" lang="zh-CN" sz="2000" spc="-1" strike="noStrike">
                  <a:solidFill>
                    <a:srgbClr val="ffffff"/>
                  </a:solidFill>
                  <a:latin typeface="宋体"/>
                  <a:ea typeface="Times New Roman"/>
                </a:rPr>
                <a:t>）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8720" y="4057560"/>
              <a:ext cx="162720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983120" y="907920"/>
              <a:ext cx="362124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蛔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sca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鞭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uri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住肠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nterobius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钩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cylostom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板口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cator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毛形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ichinell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吴策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ucherer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布鲁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rugia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管圆线虫</a:t>
              </a:r>
              <a:r>
                <a:rPr b="0" i="1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giostrongylu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55920" y="907920"/>
              <a:ext cx="25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线形动物门（线虫）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Nemathelminth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(nematode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8720" y="907920"/>
              <a:ext cx="1627200" cy="314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动物界</a:t>
              </a:r>
              <a:r>
                <a:rPr b="0" lang="zh-CN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imal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8720" y="90792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8720" y="6253200"/>
              <a:ext cx="7521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872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350200" y="907920"/>
              <a:ext cx="0" cy="5345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"/>
          <p:cNvGrpSpPr/>
          <p:nvPr/>
        </p:nvGrpSpPr>
        <p:grpSpPr>
          <a:xfrm>
            <a:off x="457200" y="412920"/>
            <a:ext cx="8231040" cy="6400800"/>
            <a:chOff x="457200" y="412920"/>
            <a:chExt cx="8231040" cy="6400800"/>
          </a:xfrm>
        </p:grpSpPr>
        <p:sp>
          <p:nvSpPr>
            <p:cNvPr id="252" name=""/>
            <p:cNvSpPr/>
            <p:nvPr/>
          </p:nvSpPr>
          <p:spPr>
            <a:xfrm>
              <a:off x="5002200" y="2195640"/>
              <a:ext cx="3684600" cy="42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昆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按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nophel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库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ul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伊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e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蝇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usc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白蛉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hlebotom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客蚤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Xenopsyll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ediculu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小蠊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Blattell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螯肢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硬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x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钝缘蜱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Ornithodoro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纤恙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Leptotrombidium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疥螨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arcop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蠕形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modex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,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尘螨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Dermatophag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甲壳类动物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溪蟹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Potamon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蝲蛄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ambaroi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     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剑水蚤 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yclop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38480" y="2208240"/>
              <a:ext cx="276372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节肢动物门（昆虫、螯肢动物、甲壳类动物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rthropod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（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insect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helicerat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rustacean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）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" y="2878200"/>
              <a:ext cx="1781280" cy="39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692360"/>
              <a:ext cx="368460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巨吻棘头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Macracanthorhynch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38480" y="1679760"/>
              <a:ext cx="276372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颚门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canthognath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7200" y="1679760"/>
              <a:ext cx="1781280" cy="11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02200" y="412920"/>
              <a:ext cx="368460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绦虫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estode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：带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aenia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棘球绦虫</a:t>
              </a:r>
              <a:r>
                <a:rPr b="0" i="1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Echinococcu</a:t>
              </a:r>
              <a:r>
                <a:rPr b="0" lang="pl-PL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膜壳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ymenolepis</a:t>
              </a: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，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迭宫绦虫</a:t>
              </a:r>
              <a:r>
                <a:rPr b="0" i="1" lang="zh-CN" sz="1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pirometr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38480" y="412920"/>
              <a:ext cx="276372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57200" y="412920"/>
              <a:ext cx="1781280" cy="12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57200" y="412920"/>
              <a:ext cx="8229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57200" y="6588360"/>
              <a:ext cx="82296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2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686800" y="412920"/>
              <a:ext cx="0" cy="64008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08-31T03:37:33Z</dcterms:modified>
  <cp:revision>121</cp:revision>
  <dc:subject/>
  <dc:title>医学寄生虫学总论</dc:title>
</cp:coreProperties>
</file>